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41E-68A5-43DD-86CC-4EE5A640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9E3-E3C5-4C53-B351-4DA41626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CB3-3A5E-4ECD-9F03-0D9E194D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A45-AC8C-4C85-87BF-7D354601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1FD6-62CD-4B0C-96F4-745FF873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C2D8-3F94-42A5-A027-8BABB2B6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D913-23D1-41FC-BEB8-42079236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1AA0-65A0-4977-9373-F10DFFEB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8156-25FF-4901-9B3B-2AE772BE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7341-A8AC-466E-A0A9-334A1B8F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B22-9FD6-4DA6-8703-E659BFD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46A-6255-423A-81D1-9EE49FD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C9BC-026C-4027-B575-9E258C8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FC0F-4AE6-4E53-BF9A-0D6D975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B7DA-F058-40AB-B4D8-7B007E37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E612-FBA1-41BA-854E-C11E8008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F01-0B0C-4904-A51D-A0A6CE90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376-570F-4259-AD3F-C25CD57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417-5680-46B7-A5C6-ABA6D7D9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7DF-9BC6-4E23-8291-08DF7FD3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3A9-5F56-4F7D-B6B7-5952EBB1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3E5-AB75-4E5F-9ED1-D9E87B3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7B4-EE2E-486C-9BA0-EEC3470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EAA-A135-4E52-9C9F-298FBFB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D95F1-F54E-4DE1-B49E-78E92706D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96446-4A60-40BE-837A-27D33454C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180360" y="1413000"/>
            <a:ext cx="9576720" cy="60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й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ренируем пальчики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ем  ре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ля детей младшего дошкольного возраста 2-3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Крушн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Серг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рес: 623530, Свердловская область, г. Богданович, ул. Октябрьская, д.3. Тел.: 8 (343 76)5-68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учреждение Детский сад №45 комбинированного вида «Карамель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 Богданович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845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ноцветные бусы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30440" cy="435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наталья\Desktop\Новая папка\c4e5fd62-2878-4269-9967-4ab0c2c18bde.jpg"/>
          <p:cNvPicPr/>
          <p:nvPr/>
        </p:nvPicPr>
        <p:blipFill>
          <a:blip r:embed="rId1"/>
          <a:stretch/>
        </p:blipFill>
        <p:spPr>
          <a:xfrm>
            <a:off x="467640" y="1495800"/>
            <a:ext cx="3960000" cy="528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наталья\Desktop\Новая папка\04378dc1-d515-42c7-b694-145b8d929139.jpg"/>
          <p:cNvPicPr/>
          <p:nvPr/>
        </p:nvPicPr>
        <p:blipFill>
          <a:blip r:embed="rId2"/>
          <a:stretch/>
        </p:blipFill>
        <p:spPr>
          <a:xfrm>
            <a:off x="4999320" y="1539360"/>
            <a:ext cx="3927600" cy="5236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3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наталья\Desktop\Новая папка\4a98126a-c352-4bb0-ad5f-0b41955b12dc.jpg"/>
          <p:cNvPicPr/>
          <p:nvPr/>
        </p:nvPicPr>
        <p:blipFill>
          <a:blip r:embed="rId1"/>
          <a:stretch/>
        </p:blipFill>
        <p:spPr>
          <a:xfrm>
            <a:off x="395640" y="162864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наталья\Desktop\Новая папка\59c97c99-b935-425f-ae4e-1dea31938afe.jpg"/>
          <p:cNvPicPr/>
          <p:nvPr/>
        </p:nvPicPr>
        <p:blipFill>
          <a:blip r:embed="rId2"/>
          <a:stretch/>
        </p:blipFill>
        <p:spPr>
          <a:xfrm>
            <a:off x="4716000" y="162864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аталья\Desktop\Новая папка\b3187a0c-2f5c-4d28-a48c-bf3ba47ecdae.jpg"/>
          <p:cNvPicPr/>
          <p:nvPr/>
        </p:nvPicPr>
        <p:blipFill>
          <a:blip r:embed="rId1"/>
          <a:stretch/>
        </p:blipFill>
        <p:spPr>
          <a:xfrm>
            <a:off x="323640" y="1556640"/>
            <a:ext cx="3850920" cy="513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наталья\Desktop\Новая папка\734c4952-c529-4438-893b-7130075ef227.jpg"/>
          <p:cNvPicPr/>
          <p:nvPr/>
        </p:nvPicPr>
        <p:blipFill>
          <a:blip r:embed="rId2"/>
          <a:stretch/>
        </p:blipFill>
        <p:spPr>
          <a:xfrm>
            <a:off x="4637880" y="1556640"/>
            <a:ext cx="3850920" cy="5134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наталья\Desktop\Новая папка\df735aca-dd95-459e-89d7-4ed678974210.jpg"/>
          <p:cNvPicPr/>
          <p:nvPr/>
        </p:nvPicPr>
        <p:blipFill>
          <a:blip r:embed="rId1"/>
          <a:stretch/>
        </p:blipFill>
        <p:spPr>
          <a:xfrm>
            <a:off x="467640" y="152820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талья\Desktop\Новая папка\25cc0c54-6b5e-4b91-acf4-a5ac6fc880eb.jpg"/>
          <p:cNvPicPr/>
          <p:nvPr/>
        </p:nvPicPr>
        <p:blipFill>
          <a:blip r:embed="rId2"/>
          <a:stretch/>
        </p:blipFill>
        <p:spPr>
          <a:xfrm>
            <a:off x="4808520" y="152820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3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наталья\Desktop\Новая папка\61acc9f1-df43-468d-aa8c-50c2967c0535.jpg"/>
          <p:cNvPicPr/>
          <p:nvPr/>
        </p:nvPicPr>
        <p:blipFill>
          <a:blip r:embed="rId1"/>
          <a:stretch/>
        </p:blipFill>
        <p:spPr>
          <a:xfrm>
            <a:off x="395640" y="161028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наталья\Desktop\Новая папка\fc1c8114-d040-43d1-ad99-fbee129e0d82.jpg"/>
          <p:cNvPicPr/>
          <p:nvPr/>
        </p:nvPicPr>
        <p:blipFill>
          <a:blip r:embed="rId2"/>
          <a:stretch/>
        </p:blipFill>
        <p:spPr>
          <a:xfrm>
            <a:off x="4716000" y="1623600"/>
            <a:ext cx="3783240" cy="5044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– шнуровк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наталья\Desktop\Новая папка\77119b03-f733-4f14-a1e0-c9ee9667b297.jpg"/>
          <p:cNvPicPr/>
          <p:nvPr/>
        </p:nvPicPr>
        <p:blipFill>
          <a:blip r:embed="rId1"/>
          <a:stretch/>
        </p:blipFill>
        <p:spPr>
          <a:xfrm>
            <a:off x="611640" y="1656720"/>
            <a:ext cx="374112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наталья\Desktop\Новая папка\253558c3-f657-48b8-a224-6fa4632cc521.jpg"/>
          <p:cNvPicPr/>
          <p:nvPr/>
        </p:nvPicPr>
        <p:blipFill>
          <a:blip r:embed="rId2"/>
          <a:stretch/>
        </p:blipFill>
        <p:spPr>
          <a:xfrm>
            <a:off x="5004000" y="1656720"/>
            <a:ext cx="3741120" cy="49881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наталья\Desktop\Новая папка\083792e4-3ec4-4d45-b2ba-b5622d5ebd1b.jpg"/>
          <p:cNvPicPr/>
          <p:nvPr/>
        </p:nvPicPr>
        <p:blipFill>
          <a:blip r:embed="rId1"/>
          <a:stretch/>
        </p:blipFill>
        <p:spPr>
          <a:xfrm>
            <a:off x="467640" y="1628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талья\Desktop\н.р. 1 мл.(3)\2edbfdd3-2087-441d-ba93-5a2d34260e35.jpg"/>
          <p:cNvPicPr/>
          <p:nvPr/>
        </p:nvPicPr>
        <p:blipFill>
          <a:blip r:embed="rId2"/>
          <a:stretch/>
        </p:blipFill>
        <p:spPr>
          <a:xfrm>
            <a:off x="4932000" y="1604880"/>
            <a:ext cx="3744000" cy="49921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наталья\Desktop\н.р.1мл.(2)\ba0ba9a7-073e-4799-b49b-2c1b8021ccf8.jpg"/>
          <p:cNvPicPr/>
          <p:nvPr/>
        </p:nvPicPr>
        <p:blipFill>
          <a:blip r:embed="rId1"/>
          <a:stretch/>
        </p:blipFill>
        <p:spPr>
          <a:xfrm>
            <a:off x="395640" y="1655280"/>
            <a:ext cx="3826080" cy="51015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3" descr="C:\Users\наталья\Desktop\н.р. 1 мл.(3)\ff91934e-712e-4686-87e0-36f7ccad902d.jpg"/>
          <p:cNvPicPr/>
          <p:nvPr/>
        </p:nvPicPr>
        <p:blipFill>
          <a:blip r:embed="rId2"/>
          <a:stretch/>
        </p:blipFill>
        <p:spPr>
          <a:xfrm>
            <a:off x="4788000" y="1655280"/>
            <a:ext cx="3760200" cy="50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7640" y="1484640"/>
            <a:ext cx="3921480" cy="52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969080" y="1519560"/>
            <a:ext cx="3887280" cy="51832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541440" y="189000"/>
            <a:ext cx="856908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440" cy="522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00"/>
          <p:cNvPicPr/>
          <p:nvPr/>
        </p:nvPicPr>
        <p:blipFill>
          <a:blip r:embed="rId1"/>
          <a:stretch/>
        </p:blipFill>
        <p:spPr>
          <a:xfrm>
            <a:off x="1979640" y="1628640"/>
            <a:ext cx="6264000" cy="4968360"/>
          </a:xfrm>
          <a:prstGeom prst="rect">
            <a:avLst/>
          </a:prstGeom>
          <a:ln w="9525">
            <a:noFill/>
          </a:ln>
        </p:spPr>
      </p:pic>
    </p:spTree>
  </p:cSld>
  <p:transition advTm="15000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360" cy="61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проект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ницкая Наталья серге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 первой младшей группы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ите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недели (с 01.04.2021 по 23.04.2021г)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 проек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дете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- 3 го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067440" y="1763640"/>
            <a:ext cx="16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ация областей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2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-коммуникативн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е развит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проблемы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960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е давно ни для кого не секрет, что развитие мелкой моторики (гибкости и точности движений пальцев рук) и тактильной чувствительности - мощный стимул развития у детей восприятия, внимания, памяти, мышления и речи. Дети, у которых лучше развиты мелкие движения рук, имеют более развитый мозг, особенно те его отделы, которые отвечают за речь. Пальцы рук наделены большим количеством рецепторов, посылающих импульсы в центральную нервную систему челове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ому очень важно уже с самого раннего возраста развивать у ребёнка мелкую моторику. Но просто делать упражнения малышу будет скучно – надо обратить их в интересные и полезные игр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лкая моторика рук – это разнообразные движения пальчиками и ладоням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уя разнообразную деятельность детей с предметами, игрушками и природными объектами, важно активизировать у детей сенсорные основы познания, учить малышей использовать разные органы чувств для получения информации об окружающем мире: зрение, слух, обоняние, тактильные ощущен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24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4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мелкой моторики и координации движений пальцев рук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22924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роект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3640" y="1556640"/>
            <a:ext cx="8002800" cy="424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едметно - развивающую среду для развития мелкой моторик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пальцев рук у детей раннего возраста через использование разнообразных форм, методов и прием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способности координированной работы рук со зрительным восприяти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08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проектной деятельност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литературного материала по созданию картотеки пальчиковых игр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слова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материала для иг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аж рук с помощью подручных предмет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 пальчиковой гимнастик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/игр и п/игр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для родител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опыт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роектной деятельност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, сделать вывод по теме проектной деятельност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18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2398680"/>
            <a:ext cx="878472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у детей млад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олн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ение родительского опыта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76872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льчиковые игры со словам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39640" y="5445360"/>
            <a:ext cx="633636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лья\Desktop\Новая папка\f48312cf-c86a-4c26-9d94-8982b6f303dd.jpg"/>
          <p:cNvPicPr/>
          <p:nvPr/>
        </p:nvPicPr>
        <p:blipFill>
          <a:blip r:embed="rId1"/>
          <a:srcRect l="0" t="19012" r="0" b="0"/>
          <a:stretch/>
        </p:blipFill>
        <p:spPr>
          <a:xfrm>
            <a:off x="373320" y="1556640"/>
            <a:ext cx="8416800" cy="5112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  <Words>454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ShutNik</cp:lastModifiedBy>
  <cp:lastPrinted>2021-04-25T15:45:20Z</cp:lastPrinted>
  <dcterms:modified xsi:type="dcterms:W3CDTF">2021-04-27T08:48:06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