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0.png" ContentType="image/png"/>
  <Override PartName="/ppt/media/image5.png" ContentType="image/png"/>
  <Override PartName="/ppt/media/image2.gif" ContentType="image/gif"/>
  <Override PartName="/ppt/media/image13.jpeg" ContentType="image/jpeg"/>
  <Override PartName="/ppt/media/image4.png" ContentType="image/png"/>
  <Override PartName="/ppt/media/image26.jpeg" ContentType="image/jpeg"/>
  <Override PartName="/ppt/media/image25.jpeg" ContentType="image/jpeg"/>
  <Override PartName="/ppt/media/image23.jpeg" ContentType="image/jpeg"/>
  <Override PartName="/ppt/media/image18.jpeg" ContentType="image/jpeg"/>
  <Override PartName="/ppt/media/image1.png" ContentType="image/png"/>
  <Override PartName="/ppt/media/image24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15.jpeg" ContentType="image/jpeg"/>
  <Override PartName="/ppt/media/image6.png" ContentType="image/png"/>
  <Override PartName="/ppt/media/image3.png" ContentType="image/png"/>
  <Override PartName="/ppt/media/image1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DD5B-12C2-4BBA-A298-0F6F8436D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2F14-EE1B-4E09-9359-8A543D58B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F644-EF90-4D92-9FA0-F426CE471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41D6-CE4D-45B6-B564-9E7EEAD25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834C8-D072-4053-B84C-064C454AD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0CC25-8F42-4891-8A3A-318044B20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D95CC-AFE5-4345-BA7F-035A40ACD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163B3-EB0B-4FE5-BF7B-32CABD2F3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A434A-6319-4F51-B854-9FA1290E5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F49A4-A977-4284-B42C-2355DD74A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AD1E2-90AC-43AB-897E-92A31AB8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B32D-2137-4DE1-AC61-170792637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16F60-DBF0-481C-AD33-BEE231097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2E301-A8EF-489B-8892-294E81651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DCE9A-17CF-4C12-B455-01F845168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E8188-058F-469E-AA7C-34CE51E96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226A9-ECC8-4EEF-8050-5155122FC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D5C08-F3BB-45F9-BD5E-8DEE23ABF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B73D8-9B60-4C59-8E99-CAF3A5CBB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37EC8-BD59-44C2-81A9-022EE81DA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B49B3-7D4B-452F-B1C7-EDF35B8B1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13B0C-C1CE-4229-92C7-87F238667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5324-B616-47AE-B8FF-E7FCE65D2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C538A-2102-41E0-97DC-E8CE3AEAA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337C3-223F-4132-B004-7668FECB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94F83-D40B-44D3-8EA0-B1082B38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86B1B-18BC-4644-89DD-836EA386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ECD05-A318-4464-A68D-D6C70D304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1EB95-4988-4A27-9C3E-FF5781262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5347F-BDD4-409E-B73F-F9D53CE10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03880-A526-4082-A880-70B5027BC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4B0F8-5E7E-4401-985C-3EB4CC6B4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6A308-2766-45EB-A839-6A2A99C6B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5CF0-FAF7-4CFA-B193-7FC409C90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A2C9D-A1E1-4880-B0F9-ADA71E255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DE33C-37EF-46C0-8B38-795F214E8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EE540-0EAB-498D-A55E-28AA63D89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9EA11-ACAD-4D16-A076-29C807C1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2853D-90C7-4420-8152-872EA2E9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8E33F-088C-456A-9AEC-1C538F0F9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C1A54-18CC-4485-BE27-FB3983C29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4C8DB-484F-4321-A241-429979DE7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A5A93-ADC0-40F8-9F77-B78D32484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5417-9088-4B74-8844-5BF198F5C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0314-760C-4044-B925-5044E4DCE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9ED2-869C-4A4D-A44B-38BA34906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3F14-1D9A-422C-B0A0-B97BE901E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3980-D35A-4C5F-86D5-496D3843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Группа 15"/>
          <p:cNvGrpSpPr/>
          <p:nvPr/>
        </p:nvGrpSpPr>
        <p:grpSpPr>
          <a:xfrm>
            <a:off x="324000" y="3429000"/>
            <a:ext cx="1439280" cy="1247760"/>
            <a:chOff x="324000" y="3429000"/>
            <a:chExt cx="1439280" cy="1247760"/>
          </a:xfrm>
        </p:grpSpPr>
        <p:pic>
          <p:nvPicPr>
            <p:cNvPr id="1" name="Рисунок 13" descr="babochkia-500.gif"/>
            <p:cNvPicPr/>
            <p:nvPr/>
          </p:nvPicPr>
          <p:blipFill>
            <a:blip r:embed="rId3"/>
            <a:stretch/>
          </p:blipFill>
          <p:spPr>
            <a:xfrm>
              <a:off x="324000" y="3717000"/>
              <a:ext cx="863640" cy="95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Рисунок 14" descr="babochkia-500.gif"/>
            <p:cNvPicPr/>
            <p:nvPr/>
          </p:nvPicPr>
          <p:blipFill>
            <a:blip r:embed="rId4"/>
            <a:stretch/>
          </p:blipFill>
          <p:spPr>
            <a:xfrm>
              <a:off x="971640" y="3429000"/>
              <a:ext cx="791640" cy="765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" name="Группа 10"/>
          <p:cNvGrpSpPr/>
          <p:nvPr/>
        </p:nvGrpSpPr>
        <p:grpSpPr>
          <a:xfrm>
            <a:off x="324000" y="4221000"/>
            <a:ext cx="2144520" cy="2637000"/>
            <a:chOff x="324000" y="4221000"/>
            <a:chExt cx="2144520" cy="2637000"/>
          </a:xfrm>
        </p:grpSpPr>
        <p:pic>
          <p:nvPicPr>
            <p:cNvPr id="4" name="Рисунок 7" descr="e3e9b00d15bcbc5802.jpg"/>
            <p:cNvPicPr/>
            <p:nvPr/>
          </p:nvPicPr>
          <p:blipFill>
            <a:blip r:embed="rId5"/>
            <a:stretch/>
          </p:blipFill>
          <p:spPr>
            <a:xfrm>
              <a:off x="324000" y="4383360"/>
              <a:ext cx="2144520" cy="247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Рисунок 8" descr="a1c9f1b1b13b.jpg"/>
            <p:cNvPicPr/>
            <p:nvPr/>
          </p:nvPicPr>
          <p:blipFill>
            <a:blip r:embed="rId6"/>
            <a:stretch/>
          </p:blipFill>
          <p:spPr>
            <a:xfrm>
              <a:off x="1176840" y="4221000"/>
              <a:ext cx="967680" cy="1048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" name="Рисунок 9" descr="b861062e1437.jpg"/>
          <p:cNvPicPr/>
          <p:nvPr/>
        </p:nvPicPr>
        <p:blipFill>
          <a:blip r:embed="rId7"/>
          <a:stretch/>
        </p:blipFill>
        <p:spPr>
          <a:xfrm>
            <a:off x="3851280" y="5084640"/>
            <a:ext cx="2030400" cy="1629000"/>
          </a:xfrm>
          <a:prstGeom prst="rect">
            <a:avLst/>
          </a:prstGeom>
          <a:ln w="0">
            <a:noFill/>
          </a:ln>
        </p:spPr>
      </p:pic>
      <p:pic>
        <p:nvPicPr>
          <p:cNvPr id="7" name="Рисунок 11" descr="e5cf2d10abe1974a9d.jpg"/>
          <p:cNvPicPr/>
          <p:nvPr/>
        </p:nvPicPr>
        <p:blipFill>
          <a:blip r:embed="rId8"/>
          <a:stretch/>
        </p:blipFill>
        <p:spPr>
          <a:xfrm>
            <a:off x="2268360" y="5013360"/>
            <a:ext cx="1835280" cy="1631880"/>
          </a:xfrm>
          <a:prstGeom prst="rect">
            <a:avLst/>
          </a:prstGeom>
          <a:ln w="0">
            <a:noFill/>
          </a:ln>
        </p:spPr>
      </p:pic>
      <p:pic>
        <p:nvPicPr>
          <p:cNvPr id="8" name="Рисунок 6" descr="3399018-e1093bc93b80ae9b.png"/>
          <p:cNvPicPr/>
          <p:nvPr/>
        </p:nvPicPr>
        <p:blipFill>
          <a:blip r:embed="rId9"/>
          <a:stretch/>
        </p:blipFill>
        <p:spPr>
          <a:xfrm>
            <a:off x="250920" y="189000"/>
            <a:ext cx="2409840" cy="246528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3AD12-545B-4118-886E-BF1DA7265A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7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5" descr="e3e9b00d15bcbc5802.jpg"/>
          <p:cNvPicPr/>
          <p:nvPr/>
        </p:nvPicPr>
        <p:blipFill>
          <a:blip r:embed="rId2"/>
          <a:stretch/>
        </p:blipFill>
        <p:spPr>
          <a:xfrm>
            <a:off x="250920" y="5362560"/>
            <a:ext cx="1296720" cy="14954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C3619-FFA1-4542-868B-113F64E50A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15" descr="b861062e1437.jpg"/>
          <p:cNvPicPr/>
          <p:nvPr/>
        </p:nvPicPr>
        <p:blipFill>
          <a:blip r:embed="rId2"/>
          <a:stretch/>
        </p:blipFill>
        <p:spPr>
          <a:xfrm>
            <a:off x="7380360" y="5442120"/>
            <a:ext cx="1763640" cy="14158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69CE6-63CE-45A0-B7D0-02CB70E07D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Рисунок 15" descr="e5cf2d10abe1974a9d.jpg"/>
          <p:cNvPicPr/>
          <p:nvPr/>
        </p:nvPicPr>
        <p:blipFill>
          <a:blip r:embed="rId2"/>
          <a:stretch/>
        </p:blipFill>
        <p:spPr>
          <a:xfrm>
            <a:off x="324000" y="5481720"/>
            <a:ext cx="1546200" cy="13762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92380-9369-4C40-A7A6-17084C0FD6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56920" y="1571400"/>
            <a:ext cx="492948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Calibri"/>
              </a:rPr>
              <a:t>Игра-развлечение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«ПУТЕШЕСТВИЕ ПО РУССКИМ – НАРОДНЫМ  СКАЗКАМ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571760" y="39290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Воспитатель: Майорова Т.А</a:t>
            </a:r>
            <a:r>
              <a:rPr b="0" lang="ru-RU" sz="18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( дети средней группы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До свидания сказка, приходи к нам еще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785880" y="1600200"/>
            <a:ext cx="3429000" cy="38289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2"/>
          <a:stretch/>
        </p:blipFill>
        <p:spPr>
          <a:xfrm>
            <a:off x="4648320" y="1571760"/>
            <a:ext cx="4038480" cy="38574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177336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Начинается наше путешествие по сказкам……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3" descr=""/>
          <p:cNvPicPr/>
          <p:nvPr/>
        </p:nvPicPr>
        <p:blipFill>
          <a:blip r:embed="rId1"/>
          <a:stretch/>
        </p:blipFill>
        <p:spPr>
          <a:xfrm>
            <a:off x="3913200" y="1463760"/>
            <a:ext cx="3213000" cy="41558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"/>
          <p:cNvPicPr/>
          <p:nvPr/>
        </p:nvPicPr>
        <p:blipFill>
          <a:blip r:embed="rId2"/>
          <a:stretch/>
        </p:blipFill>
        <p:spPr>
          <a:xfrm>
            <a:off x="6815160" y="3943440"/>
            <a:ext cx="2120760" cy="27129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"/>
          <p:cNvPicPr/>
          <p:nvPr/>
        </p:nvPicPr>
        <p:blipFill>
          <a:blip r:embed="rId3"/>
          <a:stretch/>
        </p:blipFill>
        <p:spPr>
          <a:xfrm>
            <a:off x="642960" y="1643040"/>
            <a:ext cx="2357280" cy="2357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"/>
          <p:cNvPicPr/>
          <p:nvPr/>
        </p:nvPicPr>
        <p:blipFill>
          <a:blip r:embed="rId4"/>
          <a:stretch/>
        </p:blipFill>
        <p:spPr>
          <a:xfrm>
            <a:off x="1530360" y="4071960"/>
            <a:ext cx="211464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53735"/>
                </a:solidFill>
                <a:latin typeface="Calibri"/>
              </a:rPr>
              <a:t>К нам в гости лисичка пришла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779400" y="1714680"/>
            <a:ext cx="3394080" cy="38574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"/>
          <p:cNvPicPr/>
          <p:nvPr/>
        </p:nvPicPr>
        <p:blipFill>
          <a:blip r:embed="rId3"/>
          <a:stretch/>
        </p:blipFill>
        <p:spPr>
          <a:xfrm>
            <a:off x="5000760" y="1714680"/>
            <a:ext cx="3244680" cy="38289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Угадай сказку по картинке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6" descr=""/>
          <p:cNvPicPr/>
          <p:nvPr/>
        </p:nvPicPr>
        <p:blipFill>
          <a:blip r:embed="rId2"/>
          <a:stretch/>
        </p:blipFill>
        <p:spPr>
          <a:xfrm>
            <a:off x="779400" y="1785960"/>
            <a:ext cx="3394080" cy="38577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7" descr=""/>
          <p:cNvPicPr/>
          <p:nvPr/>
        </p:nvPicPr>
        <p:blipFill>
          <a:blip r:embed="rId3"/>
          <a:stretch/>
        </p:blipFill>
        <p:spPr>
          <a:xfrm>
            <a:off x="5000760" y="1857240"/>
            <a:ext cx="3392280" cy="37864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Помогаем сказочному герою колобку, вернуться к бабушке и дедушке</a:t>
            </a:r>
            <a:r>
              <a:rPr b="1" lang="ru-RU" sz="3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779400" y="1643040"/>
            <a:ext cx="3394080" cy="39290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" descr=""/>
          <p:cNvPicPr/>
          <p:nvPr/>
        </p:nvPicPr>
        <p:blipFill>
          <a:blip r:embed="rId2"/>
          <a:stretch/>
        </p:blipFill>
        <p:spPr>
          <a:xfrm>
            <a:off x="4970520" y="1643040"/>
            <a:ext cx="3394080" cy="37861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Импровизация сказки «РЕПК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4" descr=""/>
          <p:cNvPicPr/>
          <p:nvPr/>
        </p:nvPicPr>
        <p:blipFill>
          <a:blip r:embed="rId1"/>
          <a:stretch/>
        </p:blipFill>
        <p:spPr>
          <a:xfrm>
            <a:off x="4970520" y="1600200"/>
            <a:ext cx="3394080" cy="38289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" descr=""/>
          <p:cNvPicPr/>
          <p:nvPr/>
        </p:nvPicPr>
        <p:blipFill>
          <a:blip r:embed="rId2"/>
          <a:stretch/>
        </p:blipFill>
        <p:spPr>
          <a:xfrm>
            <a:off x="779400" y="1600200"/>
            <a:ext cx="3394080" cy="39006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Угадай, какие из этих сказок</a:t>
            </a:r>
            <a:br>
              <a:rPr sz="3200"/>
            </a:br>
            <a:r>
              <a:rPr b="1" i="1" lang="ru-RU" sz="3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 русские-народны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779400" y="1600200"/>
            <a:ext cx="3394080" cy="38289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" descr=""/>
          <p:cNvPicPr/>
          <p:nvPr/>
        </p:nvPicPr>
        <p:blipFill>
          <a:blip r:embed="rId2"/>
          <a:stretch/>
        </p:blipFill>
        <p:spPr>
          <a:xfrm>
            <a:off x="4970520" y="1600200"/>
            <a:ext cx="3394080" cy="39006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Строим домик для колобка, и указываем ему путь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779400" y="1600200"/>
            <a:ext cx="3394080" cy="39006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"/>
          <p:cNvPicPr/>
          <p:nvPr/>
        </p:nvPicPr>
        <p:blipFill>
          <a:blip r:embed="rId2"/>
          <a:stretch/>
        </p:blipFill>
        <p:spPr>
          <a:xfrm>
            <a:off x="4970520" y="1600200"/>
            <a:ext cx="3394080" cy="39006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«Ну вот и сказке конец, а кто слушал, молодец!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Рисунок 3" descr="Колобок - русская народная сказка"/>
          <p:cNvPicPr/>
          <p:nvPr/>
        </p:nvPicPr>
        <p:blipFill>
          <a:blip r:embed="rId1"/>
          <a:stretch/>
        </p:blipFill>
        <p:spPr>
          <a:xfrm>
            <a:off x="573120" y="1579680"/>
            <a:ext cx="2852640" cy="39859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" descr=""/>
          <p:cNvPicPr/>
          <p:nvPr/>
        </p:nvPicPr>
        <p:blipFill>
          <a:blip r:embed="rId2"/>
          <a:stretch/>
        </p:blipFill>
        <p:spPr>
          <a:xfrm>
            <a:off x="4357800" y="1714680"/>
            <a:ext cx="3429000" cy="35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0T17:05:06Z</dcterms:created>
  <dc:creator>оксана</dc:creator>
  <dc:description/>
  <dc:language>en-US</dc:language>
  <cp:lastModifiedBy>ShutNik</cp:lastModifiedBy>
  <dcterms:modified xsi:type="dcterms:W3CDTF">2021-12-17T09:53:11Z</dcterms:modified>
  <cp:revision>74</cp:revision>
  <dc:subject/>
  <dc:title>Слайд 1</dc:title>
</cp:coreProperties>
</file>